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E199-C637-4885-90BB-9E0470FAA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231E-DF9E-427A-95A0-DC3CA0AC9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B3E-AF61-4B98-9C6A-44C96D65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C19-E0BA-4B6C-86E5-0F5283A3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193-18A8-4E3B-B8A7-45091ACC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668-2B23-4881-9B99-53C34DCA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BE57-148E-4FF7-9E0E-5CCFFF81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EA8-30D3-47ED-8306-662C93F2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14B-8F3D-4997-9510-4288BDA5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744-3AB2-458D-B84A-ACAAED84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214-74B8-4407-A18A-08C919E2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429-FA90-4F2A-A44E-81F73F86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F08-3A0D-40C7-A8E1-C2F63AD8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452-0E56-4B4F-8C77-FFF62C18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88EF-B253-4787-A47C-E84B77070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tephanie Fabri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tephanie Fabriz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tephanie Fabriz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tephanie Fabri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tephanie Fabriz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22860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22860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228600" y="5562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28600" y="4495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76320" y="5334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8600" y="3429000"/>
            <a:ext cx="16765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Stephani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Yo vivo en new york city. Yo tengo catorce años. Sí, tengo 3 hermanos. Soy feliz. Aido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ttan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248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ald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0880" y="5334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962520"/>
            <a:ext cx="41148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m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estoy aburrida. Tu eres muy alta. Tengo trabajar manana. Mucho gusto dia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44956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oy cansadas! La escuela es dificil! Tu mira muy bonita dia! Donde estas manana?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Brittan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Hola! Yo soy muy ocupada! Como estas hermano? Enfermo? Mi perro es muy grand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95480" y="4572000"/>
            <a:ext cx="6019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! Tu foto es nuevo? MI papa es trayendo yo a tu casa manana! Tengo que preguntarle a mi ma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971800" y="5181480"/>
            <a:ext cx="472428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s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uestras prueba es manana! Estas loca? Nuestra mente para dormir! No puedo ir m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95480" y="6019920"/>
            <a:ext cx="52578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rald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as tenemos que espera para gemelas! Cual casa? Por que vamos? Ciao! Hasta luego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das! Como estas? Puedes venir a mi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992520" y="624852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57400" y="5943600"/>
            <a:ext cx="609480" cy="58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28600" y="5638680"/>
            <a:ext cx="45720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981080" y="25146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62120" y="48769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057400" y="3886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1447920" y="495288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2057400" y="44956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152280" y="48769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2057400" y="5181480"/>
            <a:ext cx="787320" cy="525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914400" y="5715000"/>
            <a:ext cx="685800" cy="54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533520" y="380880"/>
            <a:ext cx="7426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Brittany</cp:lastModifiedBy>
  <dcterms:modified xsi:type="dcterms:W3CDTF">2012-12-05T21:22:46Z</dcterms:modified>
  <cp:revision>106</cp:revision>
  <dc:subject/>
  <dc:title>Profile</dc:title>
</cp:coreProperties>
</file>